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7D4F-F624-4D86-AAA1-F4DCBD72C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A288-44C5-4B78-8E5A-07E09BCB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8415-1286-4CF1-BC83-329062616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47CC-8922-4691-BBD3-6176C3EA3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2D3E-9473-4328-9F8B-E94621D11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BA37-9F9D-47FE-B506-422DB706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0D45-6F22-4356-9ABF-35B363B3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DEFF-D020-4A7B-AE3F-0F42AF27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A0D1-E55C-49E8-BCF9-3CED5AA7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1E82-D84E-47E9-B0C8-A307253E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2472-4F5A-4999-881C-9176DAF1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CD07-2416-4C99-938C-1481E5BF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0969-4E80-446B-AE66-90E61A4A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9DD26-3839-4CAB-8293-95B00F32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94703-FE2A-4B96-A3DF-5F3A8BB2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BE40-DE8F-4836-BA4D-3BA1F5B99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9009-053B-4D5A-9709-90725DF9B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749E-DC1A-43EF-9FA8-F635CBE9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871D-F44A-48A5-823A-7EA8407D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64AA-A7C4-4432-BABD-6D1DE249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C8E1-B0FD-4F13-9CD5-B3C3CD30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D819-EC97-4971-83B5-C0A070A1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D479-0704-48DE-96D5-C4F181D9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8E67-F182-445D-90B2-7DECAE05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46200" indent="-24840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994320" indent="-19872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392120" indent="-19872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789920" indent="-19872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789920" indent="-19872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789920" indent="-19872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D925-A27F-4912-A21D-60E0E453D03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C9D3-1480-47C8-97C8-9FD1D234D4D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elcome Mom and Dad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7960" y="2590920"/>
            <a:ext cx="38098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r. Lucci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urth Grade Spring Conferenc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rch 19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85440" y="2590920"/>
            <a:ext cx="3809880" cy="3504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ank you for coming!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ny questions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923760" cy="690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7467480" y="2286000"/>
            <a:ext cx="9241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 Read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2209680"/>
            <a:ext cx="80010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ading skills I have worked on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amma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arts of speech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y favorite books I’ve read in clas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ayside School is Falling Dow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Series of Unfortunate Events: Book 13 The En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l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4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" dur="2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" dur="20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Math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9320" y="2437920"/>
            <a:ext cx="716256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th skills that I have worked on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ecimal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raction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ouble digit multiplicat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y favorite activity to do in math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ultiplicat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uzz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ivis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9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2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7" dur="2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2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20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6" dur="20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cience and Social Studie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281952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cienc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ircuit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ystery box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cosystem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cial Studi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ap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Jobs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outh east reg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" dur="5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urth Grade in Review:  Writ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mic strip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reative writin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tended response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1142640"/>
            <a:ext cx="8839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y favorite experiences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8320" y="2057040"/>
            <a:ext cx="449568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king terrarium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ving class parties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oing to the U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85800" y="2690640"/>
            <a:ext cx="3809880" cy="2848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ings I’m good at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ultiplica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ad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ying atten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2362320"/>
            <a:ext cx="716256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ings I need to work on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236232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iste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raw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r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y Goals for the next three months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391520" cy="403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 will listen better by being quie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 will write neater by taking my time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 will pay attention more by focusing on what we are doing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7:13:09Z</dcterms:created>
  <dc:creator>NSSD112</dc:creator>
  <dc:description/>
  <dc:language>en-US</dc:language>
  <cp:lastModifiedBy>nssd112</cp:lastModifiedBy>
  <dcterms:modified xsi:type="dcterms:W3CDTF">2009-06-04T17:09:13Z</dcterms:modified>
  <cp:revision>29</cp:revision>
  <dc:subject/>
  <dc:title>Welcome Mom and Dad!</dc:title>
</cp:coreProperties>
</file>